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6B8C-0577-4640-A1F7-C587EFC13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120D-2FF2-45F5-B0A0-600FF9A26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5485-21BC-40F4-A7E0-AD1BBC869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DE0E-5DB5-47DA-8197-0B8B88003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9D7B-80F3-47D2-8D27-1DACB03F0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9A64-9044-45E2-BFD8-C2640988C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CF32-8B45-48C6-BB6D-E58AE70F3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0E61-3C10-46E9-80F7-1B487CBE6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505D-C8A4-4088-A971-E97AC4A38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21C4-F7EE-41C2-88F6-73306F399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2809-E1AB-40D5-9B5B-421940306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C6E2-40BE-4662-8275-92D88DB0F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BF92-3C77-4BE2-9702-43F45EEFA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6AD3-576A-4496-A363-90E2108E3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EDCF-801F-41AF-A9AF-988DC6E38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EDA9-5444-4A7D-BAB2-7288F2F11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E72F-A6B2-4604-801F-027DBEDE7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3DE2-AEDA-477D-BFAB-BAC32B849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B5AB-6C89-444A-A08C-E8D46870D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93B1-0A0A-46DC-B768-3BE9404BF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2D60-E332-4A2D-BED1-9B78AF904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ABDF-834F-4185-8B49-D02DA96B5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9FB2-B6A3-4365-AC25-A7185B76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CE07-BD12-4E4B-BE78-524D2C587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527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200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527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200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5CF0-F067-45C1-9392-43532F9E5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94C1-8F29-4F03-9148-DE9398A70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286C-2648-4F00-86E5-3BAE03C9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9F9E-DAE6-4413-A775-EE1C483D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2A85-557F-417F-8A95-F8BB9D04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46EA-69C0-4445-A1B0-A645C043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2660-6CDA-404A-B18A-911F5287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9F32-4500-4394-B14A-C2441BED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FC6E-51C2-4C65-BBF3-3F311FAC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1B8E-F59E-4A1E-A087-4BFB3B27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8022-2814-480D-9FBA-2C1E71FE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9EC7-C9D2-4082-A613-0E0C0240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41AC-95E0-4F3B-8B5E-F14FF6261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527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200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527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200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B8DE-628F-412E-8A72-31003F4E7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2D43-EA94-4ADF-8BA0-74D532BC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D062-27B7-4B1D-9D68-D3425177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11C5-4DAE-4188-A6FB-69E8A9ED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10A0-CE3B-4087-BA18-7451EF9C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70F2-2A36-475D-9024-F4D2CDA7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740F-82E0-45BD-8AA0-DB405997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8BA6-52B3-4949-B8E4-BE45CFDB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83280" indent="-262800">
              <a:spcBef>
                <a:spcPts val="799"/>
              </a:spcBef>
              <a:buClr>
                <a:srgbClr val="0e18f3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51560" indent="-210240">
              <a:spcBef>
                <a:spcPts val="799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72040" indent="-210240">
              <a:spcBef>
                <a:spcPts val="7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92520" indent="-21024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279D-73B3-4AAD-95B4-078C142FF547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83280" indent="-262800">
              <a:spcBef>
                <a:spcPts val="799"/>
              </a:spcBef>
              <a:buClr>
                <a:srgbClr val="0e18f3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51560" indent="-210240">
              <a:spcBef>
                <a:spcPts val="799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72040" indent="-210240">
              <a:spcBef>
                <a:spcPts val="7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92520" indent="-21024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06D1-D2E2-44C4-B9FB-2C3F11329FFA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Poetry Terms!!!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ersonification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 figure of speech in which human qualities are attributed to animals, inanimate objects, or idea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378440" y="3946680"/>
            <a:ext cx="57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ms of the tree swayed in the wi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Simil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 figure of speech in which a comparison is made between two unlike things using the word “like” or “as”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 feel like I could die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149480" y="437508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nternal</a:t>
            </a: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Rhym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 rhyme between words in the same line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777960" y="3462480"/>
            <a:ext cx="30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y was very hai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Ton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reflection of an author’s attitude toward his or her subject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magery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ords and phrases that create vivid sensory experiences for a reader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Metaphor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 figure of speech in which an implied comparison is made between two unlike thing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Mood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feeling or atmosphere that a writer creates for a reader; reflection of an author’s attitude toward a subject or theme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Stanz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One of the divisions of a poem, composed of two or more lines usually characterized by a common pattern of meter, rhyme, and number of line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ouple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wo lines of verse with similar end-rhymed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Free Vers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Verse composed of variable, usually unrhymed lines having no fixed metrical pattern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lliteration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repetition of constant sounds at the beginning of word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640160" y="3808440"/>
            <a:ext cx="411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us Always ate App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Give Glen Good Grap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Sonne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 lyric poem of fourteen lines, following one or another of several set rhyme-scheme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Figurative Languag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Language enriched by word images and figures of speech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522800" y="3548160"/>
            <a:ext cx="592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 was as big as a beach ba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Odens’ Raven” said Ron Burgen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Hyperbol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 figure of speech which uses a deliberate exaggeration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807560" y="3848040"/>
            <a:ext cx="58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 was so hungry, he could eat a hor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06668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819440" y="4546440"/>
            <a:ext cx="48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so loud at the concert that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n’t hear myself thin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Rhym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orrespondence of terminal sounds of words or of lines of verse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048040" y="3705120"/>
            <a:ext cx="51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 I am ate Green Eggs and H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Symbol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 concrete thing used to suggest something larger and more abstract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Sensory Detail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etails perceived by sight, hearing, smell, or any mode by which one perceives stimuli outside or within the body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949320" y="443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Onomatopoei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ords whose sound imitates their suggested meaning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264320" y="3833640"/>
            <a:ext cx="39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M!! Todd hit a homeru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ssonanc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close repetition of middle vowel sound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leeting Feet Sweep by Sleeping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eese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4:38:45Z</dcterms:created>
  <dc:creator>Buffalo Grove High School</dc:creator>
  <dc:description/>
  <dc:language>en-US</dc:language>
  <cp:lastModifiedBy>BGHS</cp:lastModifiedBy>
  <dcterms:modified xsi:type="dcterms:W3CDTF">2010-03-01T13:56:37Z</dcterms:modified>
  <cp:revision>11</cp:revision>
  <dc:subject/>
  <dc:title>Poetry Terms!!!</dc:title>
</cp:coreProperties>
</file>